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96C-D353-4302-B2BE-AC6FC6C3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CFE-0ABC-4D30-BDC6-A29EB292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F72-0E83-4C69-BD28-7763D91B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ABD-B04B-46E1-AE83-D727DF1A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790-000A-4731-846D-48566F9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39E-8419-43F2-89C4-04432328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CEC-064F-44A4-B2BB-66CFF850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4B0-D495-475D-A0EB-AC042DD9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7E5-ECAB-4F9A-B7B4-55DE567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CD3-1B20-4959-BA93-727E2629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554-FEEA-48EE-AB1E-C001DD8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FCD-EA07-49D8-85D6-016B9C4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570-2853-4210-BA09-13EC60754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857160" y="7142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0000"/>
                </a:solidFill>
                <a:latin typeface="Calibri"/>
              </a:rPr>
              <a:t>L’imparfait/imperfect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928880" y="2000160"/>
            <a:ext cx="55292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5840" y="428760"/>
            <a:ext cx="842940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do these sentence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La fille était petite  et elle avait les cheveux longs et bl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J’allais à la plage tous les jour quand j’étais jeu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J’écoutais de la musique quand mon frère est arri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l portait un t-shirt bleu et un pantalon no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Quand j’avais 6 ans je me couchais à 7 he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Je marchais dans la forêt quand j’ai vu un ser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14200" y="500040"/>
            <a:ext cx="8715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The imperfect is another past tense which is used in three different circum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s in the p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criptions setting the sce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’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n automne: it was in aut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fais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nuit: It was d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 étoiles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brillai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stars were sh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criptions of peo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aniel 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grand, il 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av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 longs cheveux noirs: Daniel was tall, he had long black 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e femme méchante: She was a bad l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ow descriptions of feelings, attitudes and mental and emotional states in the past: Juliett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louse de Daniel parce qu’il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aimait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phie: Juliette was jealous of Daniel because he liked Soph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14200" y="357120"/>
            <a:ext cx="8429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eated Actions in the past: (the equivalent of “used to” in Englis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and j’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étai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jeune, je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faisai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u sport tous les j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was young I used to play sport every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and il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petit, il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allai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chez ses grands-parents tous les week-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he was little he used to go to his grandparents place every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alli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à la plage chaque é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e used to go to the beach every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200" y="571680"/>
            <a:ext cx="87156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alibri"/>
              </a:rPr>
              <a:t>3) To express incomplete actions in the past (usually when they have been interrupted by an action in the passé compos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imothy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regardai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a télévision quand le téléphone </a:t>
            </a:r>
            <a:r>
              <a:rPr b="0" i="1" lang="fr-FR" sz="2800" spc="-1" strike="noStrike">
                <a:solidFill>
                  <a:srgbClr val="ffff00"/>
                </a:solidFill>
                <a:latin typeface="Calibri"/>
              </a:rPr>
              <a:t>a sonné</a:t>
            </a:r>
            <a:r>
              <a:rPr b="0" lang="fr-FR" sz="2800" spc="-1" strike="noStrike">
                <a:solidFill>
                  <a:srgbClr val="ffff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othy was watching tv (imperfect – ongoing action) when the phone rang (pc – completed action which interrup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faisai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mes devoirs quand marie </a:t>
            </a:r>
            <a:r>
              <a:rPr b="0" i="1" lang="fr-FR" sz="2800" spc="-1" strike="noStrike">
                <a:solidFill>
                  <a:srgbClr val="ffff00"/>
                </a:solidFill>
                <a:latin typeface="Calibri"/>
              </a:rPr>
              <a:t>est arrivé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 doing my homework (imperfect ongoing action) when Marie arrived (pc – completed action which interrupts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85840" y="57168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How do we form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nous part of the present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ake of the –ons ending (this makes the imperfect st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Add the following endings t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Je  -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u –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– 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le – 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s –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us – i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s – 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les – a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00040" y="428760"/>
            <a:ext cx="8072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) Present tense nous form: F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2) Take off –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→Imperfect stem = fa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3) Add the e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285840"/>
            <a:ext cx="850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gard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) Present tense nous form: regar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2) Take off –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→Imperfect stem = regar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3) Add the e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428760"/>
            <a:ext cx="87868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Try putting these verbs in the imper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Aller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Manger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85840" y="142920"/>
            <a:ext cx="8572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only irregular verb in the imperfect is E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t still keeps the same endings as all the other verbs except it has a different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stem is ét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o the forms of être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J’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u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l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lle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Nou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Vou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i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l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lle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1:21:28Z</dcterms:created>
  <dc:creator>kr</dc:creator>
  <dc:description/>
  <dc:language>en-US</dc:language>
  <cp:lastModifiedBy>scollett</cp:lastModifiedBy>
  <dcterms:modified xsi:type="dcterms:W3CDTF">2011-07-31T21:34:57Z</dcterms:modified>
  <cp:revision>7</cp:revision>
  <dc:subject/>
  <dc:title>Slide 1</dc:title>
</cp:coreProperties>
</file>